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6CE-2027-4E65-BCFF-55FD3628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470-7FA4-4F75-A297-E24ED514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8FB-A6EE-443F-AA47-C9FF6D54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9F1-29F7-4A06-AC37-57232FB8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23D-49D7-43BE-BCDA-375ADA10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BAE-55F0-445D-AC0B-1144299A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D86-0926-450F-8075-58F2397E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364-C5F3-4666-BDA6-D3884D64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C0F-164F-4799-99C6-7968A3C0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35E-E9D0-4224-9054-3169594C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527-974F-4BAE-ADD3-518F3BD1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E5C-AD2A-4AE5-A9A2-5D1DE59C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F8BE90-3460-4E58-9E36-9FEDFCE6B88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Table 5.1.jpg"/>
          <p:cNvPicPr/>
          <p:nvPr/>
        </p:nvPicPr>
        <p:blipFill>
          <a:blip r:embed="rId1"/>
          <a:stretch/>
        </p:blipFill>
        <p:spPr>
          <a:xfrm>
            <a:off x="1620720" y="0"/>
            <a:ext cx="59004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Table 5.2.jpg"/>
          <p:cNvPicPr/>
          <p:nvPr/>
        </p:nvPicPr>
        <p:blipFill>
          <a:blip r:embed="rId1"/>
          <a:stretch/>
        </p:blipFill>
        <p:spPr>
          <a:xfrm>
            <a:off x="2552760" y="0"/>
            <a:ext cx="40381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29:55Z</dcterms:created>
  <dc:creator>Administrator</dc:creator>
  <dc:description/>
  <dc:language>en-US</dc:language>
  <cp:lastModifiedBy>Administrator</cp:lastModifiedBy>
  <dcterms:modified xsi:type="dcterms:W3CDTF">2012-04-04T09:30:07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</vt:r8>
  </property>
</Properties>
</file>